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AD5-0682-4013-BA96-08AF62F2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73C-F872-4469-BDF4-08535B5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C91-E125-4CAA-9716-CADB817D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FCE-F402-4AC7-BFF5-3DACEDAA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7930-7DD1-451F-8B8A-9CD3DB12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8C4E-5C9B-4375-82A1-E39593CF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522F-9EB9-4FFD-ADF5-E54DCA1D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A2D4-C312-4BC2-94C1-12478449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E715-C23A-4CC6-AFB6-E2FCA491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1DB1-0ED5-4837-9642-FE46AB47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9B4A-5EEE-458E-B9C8-51D8E743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223-EAAC-45C7-A59D-83790901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7D3E-E1B4-4247-B15F-B5D52D8F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AA8A-CD39-4E02-8E1B-DF34CB7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88D2-F79A-4394-A11A-FC9D8107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AA65-1DF2-4CD5-89DF-C92884A9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F3F2-6909-42AB-BE84-1E3E0A46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360-C644-472B-AE20-9EC56D34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998-61FC-4CFB-8FFA-9F3D55FC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B0C-F35F-4672-985E-5FEA2282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E1B-26E8-4491-8B90-EEF7BB1E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1AC-8849-4A76-B205-DC653BA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7F1-60F2-4BEE-96E7-9EE2E439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22E-E106-4A67-B1A6-28F279DD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DF19-EDC6-4A3F-A5F8-1EFC81E2E079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011A-03FE-4482-A444-B6C40E36B161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upport - Hardwar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Troubleshooting the Interactive Whiteboard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ep 1 Break into groups of 2. One teacher and   one Tech Team member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ep 2 The “teacher” will state an issue the whiteboard is having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ep 3 The “squad member” will troubleshoot the issu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ep 4 Reverse the role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hare what scenarios you acted out and how you handled the situation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re there any other issues you can think about that we haven’t discussed today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id we troubleshoot the Whiteboard issues? 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some of the issues your teacher is having with their whiteboard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can we fix these problems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After completing this session you will be able to help your teachers troubleshoot whiteboard issu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Determine which of the following issues you are having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Orientating the Whiteboar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iteboard light signal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un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heck that the power to the speakers are connecte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urn on the speakers (you should see a green light.) Make sure to turn them on before you connect to your computer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Make sure there is sound on your computer and that it is not muted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heck your sound properties by right clicking on the sound icon on your taskbar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rientating the Whiteboar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on the keyboard button and right click button on the Whiteboard tray at the same tim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on the center of each cross. Make sure you are clicking on the tiny yellow circle in the middle of the cros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f you make a mistake click the keyboard button and continu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ignal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eady Green Light – The Whiteboard is ready to go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linking Green Light – Software issue. You may have to reinstall the Whiteboard softwar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ed Light – No power is going to the Whiteboard. Check for loose connections and faulty wiring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it is your turn to follow the trouble shooting step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ach student will have a chance to fix the 3 problems liste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E</cp:lastModifiedBy>
  <dcterms:modified xsi:type="dcterms:W3CDTF">2008-10-22T11:21:52Z</dcterms:modified>
  <cp:revision>5</cp:revision>
  <dc:subject/>
  <dc:title>Workshop Title</dc:title>
</cp:coreProperties>
</file>